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855-4A1E-424F-898C-D5B236CA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083-CA56-4F16-97D2-C832CF30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69C-2B76-4281-A54A-C5244963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C3A-FDDF-47BA-86D2-E1486DF8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979-2A54-4D75-B853-447EBC3D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794-E8C8-46CC-9C2A-98105895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21D-6C20-4B00-94E4-39BA4207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303-E7C3-4DB6-9FFC-CA73717B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6D1-DB74-41F5-826F-F6AC3C54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DAC-5462-42E8-940F-77388C1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80C-3133-42EA-A34A-CEA81226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A3F-0817-4EF7-B945-A227D9F2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CC30-22B5-4223-8152-2FEBFB6DDC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haracterisation and v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haracter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otagon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31640" y="16002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riter’s skill in creating characters in poetry or pr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ed person in a poem, play or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le or character adopted by a poet or aut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jor character who drives the action forward in a poem, drama or no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irst-person nar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ird-person nar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tinctive tone or style of a poem or poet; views or perspective of one character in a poem, play or no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racter telling the story from their personal standpoint, using first-person pronouns ‘I’, ‘me’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et/author telling the story, using third-person pronouns ‘he’, ‘she’, ‘it’, ‘they’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Walker, Kimberly</cp:lastModifiedBy>
  <dcterms:modified xsi:type="dcterms:W3CDTF">2014-12-17T14:37:10Z</dcterms:modified>
  <cp:revision>73</cp:revision>
  <dc:subject/>
  <dc:title>La Belle Dame Sans Merci</dc:title>
</cp:coreProperties>
</file>